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F71C-272F-4C45-A4C6-F1AB2D85B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011F-1DBD-48F3-8015-E39BB28E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0F0E-669B-4A2E-B7C4-FB0E1B1D8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4A57-536C-4CBF-BF39-E9DA09BAE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ED8A-B305-43CD-B178-9ACF5901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8E8C-B988-41F2-A908-D931C833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1463-E47B-490B-A6F8-043457C1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E470-74E5-4D48-A61B-BFCCDECD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A1D5-3821-4859-A715-324048F4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9281-6EB0-4A3F-8C20-84D599FA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5718-380A-477B-A892-E221BDF0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DE2E-6BD5-4B22-9F38-3AD5FE64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D5AF-295B-46F4-A0A8-46182B549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eor Notes 11/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teoro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hunk of rock or dust in space that come from comets or aster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te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 meteoroid that passes through Earth’s atmosphere. Friction with air creates heat and produces a streak of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teor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 meteoroid that does not burn up completely in the Earth’s atmosphere as a meteor and hits Earth’s surf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3:44:27Z</dcterms:created>
  <dc:creator>skrial</dc:creator>
  <dc:description/>
  <dc:language>en-US</dc:language>
  <cp:lastModifiedBy>skrial</cp:lastModifiedBy>
  <dcterms:modified xsi:type="dcterms:W3CDTF">2009-11-16T13:45:04Z</dcterms:modified>
  <cp:revision>1</cp:revision>
  <dc:subject/>
  <dc:title>Meteor Notes 11/16</dc:title>
</cp:coreProperties>
</file>